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4692-DEA2-448C-B0F8-812F5EA67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25C2-B56A-450B-9D78-B7CC5ABF0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BDFB-1889-42F3-BCFC-43CCF9930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E9B2-684B-4104-9E3E-816BC49B0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DBD6-1F8F-4F3D-94FD-F09EC3C72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4A53-9D75-45FF-93CF-A89EBE82D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6063-E755-4E7F-8E6E-7B2C9EAC5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7590-FBA7-45E4-8D9C-B933A147A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4FCE-700B-40A8-BC70-51C121531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1135-1E08-4EE2-AF0B-F015B6CE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B0CD-D1C3-4B11-921B-741F4682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725D-EB2F-478C-91CF-42702A12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C2558-6E82-4B51-9CB1-31E9583F4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THE MARCH FOR VOTING R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7467480" cy="48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00200" y="6094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rtin Luther King Jr. and his wife Coret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8120" y="1066680"/>
            <a:ext cx="37036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09680" y="1066680"/>
            <a:ext cx="5181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52480" y="45720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600 TEAR GASS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162920" cy="5076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95280" y="304920"/>
            <a:ext cx="617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ATEN WITH BILLY CLUB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95280" y="1284120"/>
            <a:ext cx="6400800" cy="5313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057400" y="304920"/>
            <a:ext cx="480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TIMES OF SEGRE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5181480" cy="2960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410080" y="2629080"/>
            <a:ext cx="3733920" cy="3554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80880" y="464832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BOB EW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486400" y="609480"/>
            <a:ext cx="3429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OPS IN THE TIMES OF SEGRE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391520" cy="5518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600200" y="38088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OTING RIGHTS ARE GRAN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17:42:41Z</dcterms:created>
  <dc:creator>Milford Public Schools</dc:creator>
  <dc:description/>
  <dc:language>en-US</dc:language>
  <cp:lastModifiedBy>Milford Public Schools</cp:lastModifiedBy>
  <dcterms:modified xsi:type="dcterms:W3CDTF">2009-03-27T17:36:39Z</dcterms:modified>
  <cp:revision>4</cp:revision>
  <dc:subject/>
  <dc:title>THE MARCH FOR VOTING RIGHTS</dc:title>
</cp:coreProperties>
</file>